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6C3-4E09-4934-92D1-16020C71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152-9865-417B-B83B-635D7185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731C-66F9-451F-AE78-73D5605A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1AF-D0CD-48A8-9B89-8A123D4E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61E-BE72-4448-BA92-22EF82DC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3F0-0424-4EB6-9BA2-A0C679B5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F30-7FA5-4B01-AD2F-0A68CA14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BD4-49D0-4D59-BB78-FE25C7D4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984-6513-408D-B74B-433F877C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6BC-41EA-47A1-B89D-2396AEBA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E0B-A6E7-445D-ABDB-C4A1BEB3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BA9-5BDE-49F0-A189-72668C6E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3A4A-3630-481F-8E22-36918FD5A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UNTOS  CALIENTES  Y  PLUMAS     MANTÉ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 OBSTANTE  QUE  EL  SISTEMA TECTÓNICO   ES  DOMINADO  POR   PROCESOS  GEOLÓGICOS  QUE  OCURREN  EN  LOS MÁRGENES  DE  LAS  PLACAS,  Y  EL  ENFOQUE  PRINCIPAL  DE  LO  VISTO  HASTA AHORA   SE  CENTRA  EN  LOS  BORDES  DE  PLACAS,   EL  INTERIOR  DE  ÉSTAS  NO  ES  TOTALMENTE  PASIVO,  NI  ESTÁ  COMPLETAMENTE  QUI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EJOS  DE  LOS  BORDES  DE  PLACA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ARECEN  SER  LA  EXPRESIÓN  MAYOR  DEL  CALOR  INTERNO  DE  LA TIERRA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RATA  DE   UNA  FUENTE   DE  MATERIAL  CALIENTE,    QUE   ASCIENDE  DESDE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DEL  NUCLEO  CON  EL  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  FORMA  DE  LARGAS  COLUMNAS  VERTICALES,  QUE  AL  LLEGAR   CERCA  DE   LA SUPERFICIE,   PRODUCEN   LOS  CONOCID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 “HOTSPOTS”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E   CARACTERIZAN  POR  PRESENTAR  UNA  VASTA  CORTEZA  HINCHADA,  ACTIVIDAD   VOLCÁNICA   INTENSA,  Y    ELEVADOS     FLUJOS  CALIEN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AGMA  BASÁLTICO   QUE   SE  GENERA  EN  U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 SE  DISTINGUE  PORQUE   HA  DERIVADO   PARCIALMENTE   DE  VESTIGIOS  DE   ANTIGU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SLAB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SUBDUCTADOS    HASTA  LAS  PROFUNDIDADES  DEL  MA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OS  EMPLAZAMIENTOS  CONTINENTALES  SE  PUEDE   FORMAR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IOLIT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NCIMA  DE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  MANTÉ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  MEZCLA  PARCIAL  CON LA CORTEZA,   O   POR  CRISTALIZACIÓN   FRACCIONADA  DEL  BAS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UNTOS     CALIENTES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CERCA  DEL  FONDO  OCEÁNICO,   PUEDEN PPRODUCIR  ABUNDANT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  EL  FONDO  DEL  OCÉANO,  Y  FORMAR   EXTENS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EÁN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CONTINUAR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 LITOSFÉRIC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PLAZÁNDOSE   ENCIMA  D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SE   FORMA  UNA  ANGOST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ES  OCEÁNICOS 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CON   VOLCANES ACTIV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DUCIENTO  DIRECTAMENTE    ENCIMA    DE   LA   COLA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(Ej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CHIPIÉLAGO   DE  HAWA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CASO  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TÉ  CENTRADA  EN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DG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O  ACEÁNICO,  SE  FORMA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EAU    VOLCÁ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ARGAD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CERCA  DE    CONTINENTES   PUEDEN  CAUS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ZAMIENTOS  REGI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UPCIONES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CONTINENTALE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TAMBIÉN  SE  PUEDEN   DESARROLLAR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S  DE  CALDERAS  RIOLÍT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SI  LA  CORTEZA  CONTINENTAL  SE     MEZCLA  PARCIALMENTE  CO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 BASÁLTICO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SE  PUEDE  SOSTENER  QUE  L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UEDEN     EFECTAR 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  CLIMÁ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 TIERRA  Y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PO MAGNÉ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0:10:21Z</dcterms:created>
  <dc:creator>Universidad de Chile</dc:creator>
  <dc:description/>
  <dc:language>en-US</dc:language>
  <cp:lastModifiedBy>Universidad de Chile</cp:lastModifiedBy>
  <dcterms:modified xsi:type="dcterms:W3CDTF">2001-06-27T22:33:51Z</dcterms:modified>
  <cp:revision>5</cp:revision>
  <dc:subject/>
  <dc:title>“HOTSPOTS”     Y     PLUMAS     MANTÉLICAS</dc:title>
</cp:coreProperties>
</file>